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B7F5-8A92-4D0B-BBFB-3ED4C0CA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6707-F462-4E51-8066-5BFDEBA8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1887-8BF8-4ABE-B5B0-E7826F5B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CF5-F004-4997-9183-DA3D04CE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6589-CB97-439A-8E8A-C42F0B8B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6D32-1F42-461B-8FF1-E7F96A30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54E3-5673-4E05-A29A-74AC75C9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FB5D-BC30-438A-9A53-1EFFDC88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69CC-5650-4EFE-897E-C1F82421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9A3A-F3D0-494F-A73E-C11F72DF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254B-9DD0-4DF7-9AA7-5EAAD02B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061-6B07-412B-93E3-64C7CA5F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A68C-56B7-4AAF-B3E3-92F6DD29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031A-6C6E-46FA-8351-2519651D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A2C2-05F5-4A69-BB6D-D8AB9F24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217A-A1AD-4A6E-93DA-B96EFBCB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970F-3513-4EF3-8620-B99BBEEC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78336-8633-4628-AC95-95408C52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3C8A5-1033-4191-BC15-7CB901AD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5A40E-E2B9-483B-A239-65B49D78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06EE3-B5F3-4760-966C-A5CE29CC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D05A0-DBAC-4208-A0DC-8AC922D9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A005-F053-4639-9C18-2FF7CD86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5A298-CCC4-496D-9003-87B6158D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50FAF-95B6-441C-A3CE-A6BDCEB0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C835C-3B30-4B04-A0E1-74E91EB5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07995-1428-4091-A4B2-F9C4595C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18F26-B010-4FF8-B04B-54EDC88E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54E14-6133-43A1-B00A-545F9ED5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89466-72EE-4A5D-BC16-8D681953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308B2-36A5-43E6-BA48-BA132429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7B643-3ECD-4200-9E50-BC6584FA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0821C-CB29-42BD-A9A2-A0561F31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D51-BE1C-4E8F-A36E-C3638560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D26E9-3E93-4BB9-9527-75DEA958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BD3C4-3667-4624-A52C-7218612F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254D5-8F21-4E5D-BF56-A7052C44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CC4EE-04D1-49E0-9B56-FAFDB8A4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A10F1-2411-4C7F-B1E8-12FD309D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749D3-4553-4508-9488-AA745A02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1314B-30EB-49D0-9FBC-76D52EFA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E08BA-7489-4202-89A6-CDAF210E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790CA-E3A7-47D8-914E-31259271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C44-CA9E-49FC-84BF-E79250FE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DEC-A4E0-455D-A709-2454AE2C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65B7-277D-4B6B-B9F3-4C5D995F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96C8-01C0-4CAF-8A4C-76F314CA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8BFC-C336-42ED-BD97-64969DD2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5432-3D1C-4C95-9F07-C7357F262ABD}" type="datetime2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A7D6-C77A-40DB-91D3-D499A0507A81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844E-B073-426D-9D7D-18E02490B2A8}" type="datetime2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E0B4-80A6-4F38-A15A-F6219147A9D0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0D05-18B2-425C-AA4A-DEE8497FFDA6}" type="datetime2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4A5E-07CD-4811-92F3-D416C69DDBD7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DCCE-95F6-43DA-A205-288965AF839A}" type="datetime2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52B3-3FDA-4C34-B0D9-A20270561869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-291960" y="639720"/>
            <a:ext cx="4363920" cy="8413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3B77-7215-4940-A70D-365072A1E198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085040" y="213984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1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 + 6 x 2 = 26 or 1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098000" y="2882880"/>
            <a:ext cx="614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2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many euros do I get for £10 i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change rate is £1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.4 €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1101240" y="3908520"/>
            <a:ext cx="750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3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answer to the question is 30. What is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ues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Rectangle 13" descr=""/>
          <p:cNvPicPr/>
          <p:nvPr/>
        </p:nvPicPr>
        <p:blipFill>
          <a:blip r:embed="rId2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7"/>
          <p:cNvSpPr/>
          <p:nvPr/>
        </p:nvSpPr>
        <p:spPr>
          <a:xfrm>
            <a:off x="5896080" y="216216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18"/>
          <p:cNvSpPr/>
          <p:nvPr/>
        </p:nvSpPr>
        <p:spPr>
          <a:xfrm>
            <a:off x="7305840" y="32767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14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€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19"/>
          <p:cNvSpPr/>
          <p:nvPr/>
        </p:nvSpPr>
        <p:spPr>
          <a:xfrm>
            <a:off x="3505320" y="4486320"/>
            <a:ext cx="11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20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6A29-AEDF-4AE5-8EE1-A9AC98147374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Learning Inten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uccess Criter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029200" y="3025800"/>
            <a:ext cx="383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To be able to write down mathematically the addition and subtraction of both positive and negative integer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977760" y="30448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1.    To explain how to write down mathematically  addition and subtraction of negative integer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Negative Numb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2871360" y="13842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ddition &amp; Subtr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Rectangle 14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5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CF9F-69EA-4DD3-B5B6-FE6B45B24845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Oval 2"/>
          <p:cNvSpPr/>
          <p:nvPr/>
        </p:nvSpPr>
        <p:spPr>
          <a:xfrm>
            <a:off x="5435640" y="5943600"/>
            <a:ext cx="546120" cy="596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2246400" y="444600"/>
            <a:ext cx="196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5600880" y="74916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5600880" y="96516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5600880" y="118116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5600880" y="139716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5600880" y="161280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5600880" y="182880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5600880" y="204480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5600880" y="226044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5600880" y="24764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17"/>
          <p:cNvSpPr/>
          <p:nvPr/>
        </p:nvSpPr>
        <p:spPr>
          <a:xfrm>
            <a:off x="5600880" y="26924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5600880" y="29084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5600880" y="312408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5776560" y="2936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5337720" y="226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Group 22"/>
          <p:cNvGrpSpPr/>
          <p:nvPr/>
        </p:nvGrpSpPr>
        <p:grpSpPr>
          <a:xfrm>
            <a:off x="5185080" y="574560"/>
            <a:ext cx="1021320" cy="1879560"/>
            <a:chOff x="5185080" y="574560"/>
            <a:chExt cx="1021320" cy="1879560"/>
          </a:xfrm>
        </p:grpSpPr>
        <p:sp>
          <p:nvSpPr>
            <p:cNvPr id="233" name="Text Box 23"/>
            <p:cNvSpPr/>
            <p:nvPr/>
          </p:nvSpPr>
          <p:spPr>
            <a:xfrm>
              <a:off x="5185080" y="5745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5763600" y="8031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Text Box 25"/>
            <p:cNvSpPr/>
            <p:nvPr/>
          </p:nvSpPr>
          <p:spPr>
            <a:xfrm>
              <a:off x="5185080" y="9810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5794920" y="1666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4920" y="1222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Text Box 28"/>
            <p:cNvSpPr/>
            <p:nvPr/>
          </p:nvSpPr>
          <p:spPr>
            <a:xfrm>
              <a:off x="5234400" y="1450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Text Box 29"/>
            <p:cNvSpPr/>
            <p:nvPr/>
          </p:nvSpPr>
          <p:spPr>
            <a:xfrm>
              <a:off x="5234400" y="1844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Text Box 30"/>
            <p:cNvSpPr/>
            <p:nvPr/>
          </p:nvSpPr>
          <p:spPr>
            <a:xfrm>
              <a:off x="5794920" y="2085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1" name="Text Box 31"/>
          <p:cNvSpPr/>
          <p:nvPr/>
        </p:nvSpPr>
        <p:spPr>
          <a:xfrm>
            <a:off x="5794920" y="2530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32"/>
          <p:cNvSpPr/>
          <p:nvPr/>
        </p:nvSpPr>
        <p:spPr>
          <a:xfrm>
            <a:off x="5337720" y="270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247720" y="3178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5600880" y="33638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35"/>
          <p:cNvSpPr/>
          <p:nvPr/>
        </p:nvSpPr>
        <p:spPr>
          <a:xfrm>
            <a:off x="5600880" y="35798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36"/>
          <p:cNvSpPr/>
          <p:nvPr/>
        </p:nvSpPr>
        <p:spPr>
          <a:xfrm>
            <a:off x="5600880" y="37958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37"/>
          <p:cNvSpPr/>
          <p:nvPr/>
        </p:nvSpPr>
        <p:spPr>
          <a:xfrm>
            <a:off x="5600880" y="401148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38"/>
          <p:cNvSpPr/>
          <p:nvPr/>
        </p:nvSpPr>
        <p:spPr>
          <a:xfrm>
            <a:off x="5600880" y="422748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39"/>
          <p:cNvSpPr/>
          <p:nvPr/>
        </p:nvSpPr>
        <p:spPr>
          <a:xfrm>
            <a:off x="5600880" y="444348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Rectangle 40"/>
          <p:cNvSpPr/>
          <p:nvPr/>
        </p:nvSpPr>
        <p:spPr>
          <a:xfrm>
            <a:off x="5600880" y="465948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Rectangle 41"/>
          <p:cNvSpPr/>
          <p:nvPr/>
        </p:nvSpPr>
        <p:spPr>
          <a:xfrm>
            <a:off x="5600880" y="487512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Rectangle 42"/>
          <p:cNvSpPr/>
          <p:nvPr/>
        </p:nvSpPr>
        <p:spPr>
          <a:xfrm>
            <a:off x="5600880" y="509112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Rectangle 43"/>
          <p:cNvSpPr/>
          <p:nvPr/>
        </p:nvSpPr>
        <p:spPr>
          <a:xfrm>
            <a:off x="5600880" y="530712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44"/>
          <p:cNvSpPr/>
          <p:nvPr/>
        </p:nvSpPr>
        <p:spPr>
          <a:xfrm>
            <a:off x="5600880" y="552276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45"/>
          <p:cNvSpPr/>
          <p:nvPr/>
        </p:nvSpPr>
        <p:spPr>
          <a:xfrm>
            <a:off x="5600880" y="573876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46"/>
          <p:cNvSpPr/>
          <p:nvPr/>
        </p:nvSpPr>
        <p:spPr>
          <a:xfrm>
            <a:off x="5839200" y="3392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47"/>
          <p:cNvSpPr/>
          <p:nvPr/>
        </p:nvSpPr>
        <p:spPr>
          <a:xfrm>
            <a:off x="5197320" y="40784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8" name="Group 48"/>
          <p:cNvGrpSpPr/>
          <p:nvPr/>
        </p:nvGrpSpPr>
        <p:grpSpPr>
          <a:xfrm>
            <a:off x="5018040" y="4281480"/>
            <a:ext cx="1348920" cy="1968480"/>
            <a:chOff x="5018040" y="4281480"/>
            <a:chExt cx="1348920" cy="1968480"/>
          </a:xfrm>
        </p:grpSpPr>
        <p:sp>
          <p:nvSpPr>
            <p:cNvPr id="259" name="Text Box 49"/>
            <p:cNvSpPr/>
            <p:nvPr/>
          </p:nvSpPr>
          <p:spPr>
            <a:xfrm>
              <a:off x="5018040" y="588168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1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Text Box 50"/>
            <p:cNvSpPr/>
            <p:nvPr/>
          </p:nvSpPr>
          <p:spPr>
            <a:xfrm>
              <a:off x="5851080" y="55260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1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Text Box 51"/>
            <p:cNvSpPr/>
            <p:nvPr/>
          </p:nvSpPr>
          <p:spPr>
            <a:xfrm>
              <a:off x="5018040" y="53481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Text Box 52"/>
            <p:cNvSpPr/>
            <p:nvPr/>
          </p:nvSpPr>
          <p:spPr>
            <a:xfrm>
              <a:off x="5883120" y="47260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Text Box 53"/>
            <p:cNvSpPr/>
            <p:nvPr/>
          </p:nvSpPr>
          <p:spPr>
            <a:xfrm>
              <a:off x="5895720" y="51325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Text Box 54"/>
            <p:cNvSpPr/>
            <p:nvPr/>
          </p:nvSpPr>
          <p:spPr>
            <a:xfrm>
              <a:off x="5081400" y="49291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Text Box 55"/>
            <p:cNvSpPr/>
            <p:nvPr/>
          </p:nvSpPr>
          <p:spPr>
            <a:xfrm>
              <a:off x="5119200" y="44974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Text Box 56"/>
            <p:cNvSpPr/>
            <p:nvPr/>
          </p:nvSpPr>
          <p:spPr>
            <a:xfrm>
              <a:off x="5895720" y="42814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7" name="Text Box 57"/>
          <p:cNvSpPr/>
          <p:nvPr/>
        </p:nvSpPr>
        <p:spPr>
          <a:xfrm>
            <a:off x="5883120" y="38498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58"/>
          <p:cNvSpPr/>
          <p:nvPr/>
        </p:nvSpPr>
        <p:spPr>
          <a:xfrm>
            <a:off x="5197320" y="36212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59"/>
          <p:cNvSpPr/>
          <p:nvPr/>
        </p:nvSpPr>
        <p:spPr>
          <a:xfrm>
            <a:off x="1007280" y="21286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2 + 4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60"/>
          <p:cNvSpPr/>
          <p:nvPr/>
        </p:nvSpPr>
        <p:spPr>
          <a:xfrm>
            <a:off x="1059840" y="357660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0 + ( - 8)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 Box 61"/>
          <p:cNvSpPr/>
          <p:nvPr/>
        </p:nvSpPr>
        <p:spPr>
          <a:xfrm>
            <a:off x="1144440" y="502452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-7 – (- 10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71"/>
          <p:cNvSpPr/>
          <p:nvPr/>
        </p:nvSpPr>
        <p:spPr>
          <a:xfrm>
            <a:off x="3123720" y="4122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72"/>
          <p:cNvSpPr/>
          <p:nvPr/>
        </p:nvSpPr>
        <p:spPr>
          <a:xfrm>
            <a:off x="3246840" y="5532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76"/>
          <p:cNvSpPr/>
          <p:nvPr/>
        </p:nvSpPr>
        <p:spPr>
          <a:xfrm>
            <a:off x="3192840" y="2133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AutoShape 77"/>
          <p:cNvSpPr/>
          <p:nvPr/>
        </p:nvSpPr>
        <p:spPr>
          <a:xfrm>
            <a:off x="1257480" y="2857680"/>
            <a:ext cx="1244520" cy="761760"/>
          </a:xfrm>
          <a:prstGeom prst="cloudCallout">
            <a:avLst>
              <a:gd name="adj1" fmla="val 22958"/>
              <a:gd name="adj2" fmla="val -100000"/>
            </a:avLst>
          </a:prstGeom>
          <a:solidFill>
            <a:srgbClr val="77d9e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art at 1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AutoShape 78"/>
          <p:cNvSpPr/>
          <p:nvPr/>
        </p:nvSpPr>
        <p:spPr>
          <a:xfrm>
            <a:off x="2654280" y="2781360"/>
            <a:ext cx="1193760" cy="698400"/>
          </a:xfrm>
          <a:prstGeom prst="cloudCallout">
            <a:avLst>
              <a:gd name="adj1" fmla="val -37763"/>
              <a:gd name="adj2" fmla="val -88180"/>
            </a:avLst>
          </a:prstGeom>
          <a:solidFill>
            <a:srgbClr val="91c6f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o up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Cloud 81"/>
          <p:cNvSpPr/>
          <p:nvPr/>
        </p:nvSpPr>
        <p:spPr>
          <a:xfrm>
            <a:off x="6184800" y="584280"/>
            <a:ext cx="3111480" cy="2705040"/>
          </a:xfrm>
          <a:prstGeom prst="pie">
            <a:avLst/>
          </a:prstGeom>
          <a:solidFill>
            <a:srgbClr val="8ad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+ -” side by side replace by single “-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Cloud 82"/>
          <p:cNvSpPr/>
          <p:nvPr/>
        </p:nvSpPr>
        <p:spPr>
          <a:xfrm>
            <a:off x="6032520" y="4000680"/>
            <a:ext cx="3111480" cy="2705040"/>
          </a:xfrm>
          <a:prstGeom prst="pie">
            <a:avLst/>
          </a:prstGeom>
          <a:solidFill>
            <a:srgbClr val="94f5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 -” side by side replace by single “+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Oval 83"/>
          <p:cNvSpPr/>
          <p:nvPr/>
        </p:nvSpPr>
        <p:spPr>
          <a:xfrm>
            <a:off x="2362320" y="3632040"/>
            <a:ext cx="711000" cy="393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Rectangle 84"/>
          <p:cNvSpPr/>
          <p:nvPr/>
        </p:nvSpPr>
        <p:spPr>
          <a:xfrm>
            <a:off x="2012040" y="412128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0 - 8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61"/>
          <p:cNvSpPr/>
          <p:nvPr/>
        </p:nvSpPr>
        <p:spPr>
          <a:xfrm>
            <a:off x="2038680" y="5545080"/>
            <a:ext cx="13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-7 + 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Oval 86"/>
          <p:cNvSpPr/>
          <p:nvPr/>
        </p:nvSpPr>
        <p:spPr>
          <a:xfrm>
            <a:off x="2451240" y="5079960"/>
            <a:ext cx="711000" cy="393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Straight Connector 90"/>
          <p:cNvSpPr/>
          <p:nvPr/>
        </p:nvSpPr>
        <p:spPr>
          <a:xfrm>
            <a:off x="5587920" y="3365640"/>
            <a:ext cx="2541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4" name="Rectangle 75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76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8C5F-D412-4B55-9ED8-749338F9E9FE}" type="datetime2">
              <a:rPr b="0" lang="en-GB" sz="1200" spc="-1" strike="noStrike">
                <a:solidFill>
                  <a:srgbClr val="045c75"/>
                </a:solidFill>
                <a:latin typeface="Comic Sans MS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733920" y="2577960"/>
            <a:ext cx="1373040" cy="49536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3733920" y="3192480"/>
            <a:ext cx="1373040" cy="49536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733920" y="3807000"/>
            <a:ext cx="1373040" cy="49500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3733920" y="4421160"/>
            <a:ext cx="1373040" cy="49536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3733920" y="5035680"/>
            <a:ext cx="1373040" cy="49500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3733920" y="5651640"/>
            <a:ext cx="1373040" cy="49500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695760" y="2590920"/>
            <a:ext cx="13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-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1295280" y="2590920"/>
            <a:ext cx="21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1)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 -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1295280" y="320184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2)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 + (-9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1295280" y="381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3)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7 – (- 8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1295280" y="4425840"/>
            <a:ext cx="35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4)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2 + (-1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1295280" y="5038560"/>
            <a:ext cx="35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5)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5 – (-2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1295280" y="565164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6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8 + (-9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20"/>
          <p:cNvSpPr/>
          <p:nvPr/>
        </p:nvSpPr>
        <p:spPr>
          <a:xfrm>
            <a:off x="1459080" y="188928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b5395"/>
                </a:solidFill>
                <a:uFillTx/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21"/>
          <p:cNvSpPr/>
          <p:nvPr/>
        </p:nvSpPr>
        <p:spPr>
          <a:xfrm>
            <a:off x="3695760" y="3201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-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3695760" y="381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3695760" y="4425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-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3695760" y="5038560"/>
            <a:ext cx="13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2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3695760" y="5651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27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9aaf2"/>
                </a:solidFill>
                <a:latin typeface="Comic Sans MS"/>
              </a:rPr>
              <a:t>Negative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4000" spc="-1" strike="noStrike">
                <a:solidFill>
                  <a:srgbClr val="59aaf2"/>
                </a:solidFill>
                <a:latin typeface="Comic Sans MS"/>
              </a:rPr>
              <a:t>Numb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AutoShape 29"/>
          <p:cNvSpPr/>
          <p:nvPr/>
        </p:nvSpPr>
        <p:spPr>
          <a:xfrm>
            <a:off x="5372280" y="2387520"/>
            <a:ext cx="3606480" cy="3162240"/>
          </a:xfrm>
          <a:prstGeom prst="cloudCallout">
            <a:avLst>
              <a:gd name="adj1" fmla="val -43703"/>
              <a:gd name="adj2" fmla="val 63754"/>
            </a:avLst>
          </a:prstGeom>
          <a:solidFill>
            <a:srgbClr val="4fc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Reme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+ -” = -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- -” = +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8" name="Rectangle 28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9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AE9F-93DA-44A6-9160-C3931C020615}" type="datetime2">
              <a:rPr b="0" lang="en-GB" sz="1200" spc="-1" strike="noStrike">
                <a:solidFill>
                  <a:srgbClr val="045c75"/>
                </a:solidFill>
                <a:latin typeface="Comic Sans MS"/>
              </a:rPr>
              <a:t>Friday 31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81200" y="5830920"/>
            <a:ext cx="7914960" cy="160200"/>
          </a:xfrm>
          <a:prstGeom prst="rect">
            <a:avLst/>
          </a:prstGeom>
          <a:solidFill>
            <a:srgbClr val="55a839"/>
          </a:solidFill>
          <a:ln w="9360">
            <a:solidFill>
              <a:srgbClr val="387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2" name="Text Box 3" descr=""/>
          <p:cNvPicPr/>
          <p:nvPr/>
        </p:nvPicPr>
        <p:blipFill>
          <a:blip r:embed="rId1"/>
          <a:stretch/>
        </p:blipFill>
        <p:spPr>
          <a:xfrm>
            <a:off x="798480" y="1920960"/>
            <a:ext cx="7900920" cy="394344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0"/>
          <p:cNvSpPr/>
          <p:nvPr/>
        </p:nvSpPr>
        <p:spPr>
          <a:xfrm>
            <a:off x="3056040" y="743040"/>
            <a:ext cx="3230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fceff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Box 12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5" name="Rectangle 13" descr=""/>
          <p:cNvPicPr/>
          <p:nvPr/>
        </p:nvPicPr>
        <p:blipFill>
          <a:blip r:embed="rId2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316" name="TextBox 8"/>
          <p:cNvSpPr/>
          <p:nvPr/>
        </p:nvSpPr>
        <p:spPr>
          <a:xfrm>
            <a:off x="1104840" y="481968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btracting   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Box 10"/>
          <p:cNvSpPr/>
          <p:nvPr/>
        </p:nvSpPr>
        <p:spPr>
          <a:xfrm>
            <a:off x="1114560" y="355284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dding 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8:17:26Z</dcterms:created>
  <dc:creator>Bernie Lafferty</dc:creator>
  <dc:description/>
  <dc:language>en-US</dc:language>
  <cp:lastModifiedBy>Caroline</cp:lastModifiedBy>
  <dcterms:modified xsi:type="dcterms:W3CDTF">2009-05-25T20:23:35Z</dcterms:modified>
  <cp:revision>72</cp:revision>
  <dc:subject/>
  <dc:title>Slide 1</dc:title>
</cp:coreProperties>
</file>